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76C1-D0D2-4CD1-9876-123B46D65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783E-31D4-4340-A499-BA72EF47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A886-B896-4BC8-B27A-134FB1DA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7AF9-B506-4F8A-AD33-577A8B8D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0F98-55EA-4ECD-B617-1FC4F1BB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3178-B77B-478A-B9C9-98A19A8E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5BF7-9082-4203-97CA-79933389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FDB3-431F-4B12-A9B3-C252E19A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2BC1-1362-4403-98F0-978B693E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70F6-8F92-4229-8990-6EA9893B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B7F6-E21A-497E-A43A-A498FEC8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ACDF-30BF-4844-8B5B-6A73A533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D234-8B4F-4F26-9272-883FE821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59FF-7C64-4C87-9E7C-6C21E4EF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E803-DF88-4F0E-9CC7-0B37F29E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D341-701F-4E39-ABA9-043FB7B41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4E4C-BD42-4E77-934A-915D7CF7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C2A8-539D-4749-B526-35F0A7E0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48BC-BF49-4420-BA7F-C9998708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D0CE-460C-4A56-B14B-A1A175C1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8BE7-D34C-4A34-80CF-7C906A31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E63F-EE38-40E4-8934-DD2D61AB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F3D6-A499-47D5-98B2-C5EA6FA2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6837-B00A-4B97-A3F1-F1212DFA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5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284D-0D85-42DB-AB60-666029FBAAC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5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241D-78A2-4D40-A0A2-7C90F494A28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5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09d"/>
                </a:solidFill>
                <a:latin typeface="Palatino"/>
              </a:rPr>
              <a:t>Feature Artic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onversational Writing Sty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5800" y="561024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5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09d"/>
                </a:solidFill>
                <a:latin typeface="Palatino"/>
              </a:rPr>
              <a:t>Feature writers often use </a:t>
            </a:r>
            <a:r>
              <a:rPr b="1" lang="en-US" sz="4400" spc="-1" strike="noStrike">
                <a:solidFill>
                  <a:srgbClr val="ff0000"/>
                </a:solidFill>
                <a:latin typeface="Palatino"/>
              </a:rPr>
              <a:t>I</a:t>
            </a:r>
            <a:r>
              <a:rPr b="1" lang="en-US" sz="4400" spc="-1" strike="noStrike">
                <a:solidFill>
                  <a:srgbClr val="03009d"/>
                </a:solidFill>
                <a:latin typeface="Palatino"/>
              </a:rPr>
              <a:t> </a:t>
            </a:r>
            <a:r>
              <a:rPr b="0" lang="en-US" sz="4400" spc="-1" strike="noStrike">
                <a:solidFill>
                  <a:srgbClr val="03009d"/>
                </a:solidFill>
                <a:latin typeface="Palatino"/>
              </a:rPr>
              <a:t>and </a:t>
            </a:r>
            <a:r>
              <a:rPr b="1" lang="en-US" sz="4400" spc="-1" strike="noStrike">
                <a:solidFill>
                  <a:srgbClr val="ff0000"/>
                </a:solidFill>
                <a:latin typeface="Palatino"/>
              </a:rPr>
              <a:t>we</a:t>
            </a:r>
            <a:r>
              <a:rPr b="0" lang="en-US" sz="4400" spc="-1" strike="noStrike">
                <a:solidFill>
                  <a:srgbClr val="03009d"/>
                </a:solidFill>
                <a:latin typeface="Palatino"/>
              </a:rPr>
              <a:t> as they write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2754360"/>
            <a:ext cx="723888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y do this to make the reader feel more connect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3009d"/>
                </a:solidFill>
                <a:latin typeface="Arial"/>
              </a:rPr>
              <a:t>I play soccer every day because it is my all-time favorite sp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is is called writing in the first pers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5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7086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09d"/>
                </a:solidFill>
                <a:latin typeface="Palatino"/>
              </a:rPr>
              <a:t>Feature writers ask the reader questions as if he or she could answer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133720" y="3276360"/>
            <a:ext cx="68580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Palatino"/>
              </a:rPr>
              <a:t>Can you imagine eating insec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Palatino"/>
              </a:rPr>
              <a:t>Do you believe my mother left me alone in the back seat of my ca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5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09d"/>
                </a:solidFill>
                <a:latin typeface="Palatino"/>
              </a:rPr>
              <a:t>Feature writers tell the reader about their feelings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f conf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 knew I could do it if she would just give me a ch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 could hardly believe the teacher would call on me when she knew I did not have the answ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f F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ything could happen, I could break my le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 held my breath waiting to see what would happen nex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r other emo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5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533520" y="609120"/>
            <a:ext cx="10134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09d"/>
                </a:solidFill>
                <a:latin typeface="Palatino"/>
              </a:rPr>
              <a:t>Feature writers write as if they were speaking directly to the reader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2514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Palatino"/>
              </a:rPr>
              <a:t>You have probably seen your mother bake cookies a hundred ti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09d"/>
                </a:solidFill>
                <a:latin typeface="Palatino"/>
              </a:rPr>
              <a:t>They might even add a comment to connect the reader even mo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Palatino"/>
              </a:rPr>
              <a:t>Your mom probably lets you help just like mine do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5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09d"/>
                </a:solidFill>
                <a:latin typeface="Palatino"/>
              </a:rPr>
              <a:t>Writing Conferenc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228276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s you write, try to use some of these strategies.  I will be asking you if you are using a </a:t>
            </a:r>
            <a:r>
              <a:rPr b="0" lang="en-US" sz="3600" spc="-1" strike="noStrike">
                <a:solidFill>
                  <a:srgbClr val="03009d"/>
                </a:solidFill>
                <a:latin typeface="Arial"/>
              </a:rPr>
              <a:t>conversational writing style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n your artic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8T13:24:41Z</dcterms:created>
  <dc:creator>AAPS</dc:creator>
  <dc:description/>
  <dc:language>en-US</dc:language>
  <cp:lastModifiedBy>AAPS</cp:lastModifiedBy>
  <cp:lastPrinted>2005-10-17T18:45:35Z</cp:lastPrinted>
  <dcterms:modified xsi:type="dcterms:W3CDTF">2005-10-20T05:16:19Z</dcterms:modified>
  <cp:revision>7</cp:revision>
  <dc:subject/>
  <dc:title>FEATURE ARTICLES</dc:title>
</cp:coreProperties>
</file>